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9F08-8C3D-434D-B45E-5B52659E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2A3D-A07F-44D4-A02A-A6613C2E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1C6F7-58EA-4ECD-AC03-4B5341FA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38FD-890B-4533-BFDF-9B1A262D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6B84-3738-44D7-9633-FA4BE774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1499-0FAD-4F82-A008-E27779C2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D984-EAA8-4C5E-86E2-9E4DA166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9F99-ED6B-42B4-81EA-0BF1922A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0247-A2A8-4512-9069-F0C5CE2C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F8CF-7F53-49F2-AD43-743A229D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4D3D-775A-4118-9302-0C237958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3A25-F28D-48D7-8795-AD558CD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4F4F-C904-432E-8108-8C88C32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02D9-494E-4BF4-A1E3-F3F0CDD3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EA84-7BA8-4A1A-9EC2-01264971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681F-15FE-42DF-AC71-C43634EB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3A0E-254C-4B5E-8F0D-2074ABDA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A036-69FB-4750-A1FE-2EB14E4F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6585-55AD-4543-B55C-3751C846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E9D9-C762-4BF4-B002-F0B0D5E4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AD4D-C348-490A-9CAD-5D788185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A8B1-C234-46B7-8B2F-F177D8CA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02DF-D436-43CD-84DD-076E845A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3EDB-4B85-4177-99A9-C622EACB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289C-F5F8-47AA-ABE7-8975073BA3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0C22-4518-43F2-92EC-6F5287EE20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Video Rental Indust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ICS 532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mpetition within the Indust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579840" cy="218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77040" y="1951200"/>
            <a:ext cx="2381040" cy="1485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76360" y="4149720"/>
            <a:ext cx="380052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846760" y="3941640"/>
            <a:ext cx="1641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ndustry Descrip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nting DVDs and Blu-ray dis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uter video game r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deo game r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VD/Blu-ray st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ipment r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ine stream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nerships with other media such as the Wii, Xbox and Play 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e options- Hulu, Libr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1:24:01Z</dcterms:created>
  <dc:creator>carrie.kunze</dc:creator>
  <dc:description/>
  <dc:language>en-US</dc:language>
  <cp:lastModifiedBy>carrie.kunze</cp:lastModifiedBy>
  <dcterms:modified xsi:type="dcterms:W3CDTF">2010-04-29T12:03:26Z</dcterms:modified>
  <cp:revision>2</cp:revision>
  <dc:subject/>
  <dc:title>The Video Rental Industry</dc:title>
</cp:coreProperties>
</file>